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8446-65BC-476A-A288-729CC9EE9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4E8D-B4D4-43F1-BA01-44A4DC8C8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29EB-B428-4ADB-8502-BD3E60733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5D7D-1B01-4053-A1C4-1A5AAE374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49A61-BFD6-4839-AFDB-FC625383F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A2576-5133-4378-B9F1-0484715FF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E5B48-EBF9-48AF-8AC2-A7FDEC6EB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04DE5-B8C7-4507-9BFB-40E616AA7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27988-BF58-4FA3-8312-3D1B6B020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54E52-5693-4356-A701-434025585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12406-CF09-4D97-9026-934F633C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2749-CD77-4F07-8057-8CA1A6FD0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1445C-0B36-44E5-A936-DD4AF599A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7609A-C548-417C-8709-C6C4AA50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EA0F1-77FA-4BCF-8D9F-7B789564D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C9E72-D099-4B33-B0CA-618943942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4884C-62E4-4978-9B48-D38D90BBF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2B05-F90C-4174-8149-E5BFB5A3D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D2B5-A372-481D-B0AE-52ACB1DE8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F81D-1598-407D-B1A8-86A1AC5EE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2082-C99D-4864-A3A1-812BF71B2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A806-0AE6-4F39-8965-2DC5FC5D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85BE-F751-4DD7-B2D8-75284BE3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C749-6C15-44B0-A11F-6D1095C66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E6156-9810-434D-8A4A-1F1F66F0EF7B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EBC5C-EAF7-4C2D-BB78-B693274CD951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886040" y="2773440"/>
            <a:ext cx="5371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80000"/>
                </a:solidFill>
                <a:latin typeface="Arial"/>
              </a:rPr>
              <a:t>I compiti delle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80000"/>
                </a:solidFill>
                <a:latin typeface="Arial"/>
              </a:rPr>
              <a:t>Casse Edili/Edilcasse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6EC2-6952-4FB5-AA0F-4E0ACEDBCAE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-148320" y="228600"/>
            <a:ext cx="944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0000"/>
                </a:solidFill>
                <a:latin typeface="Tahoma"/>
              </a:rPr>
              <a:t>Acquisizione, verifica ed invio dei contributi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69960" y="1428840"/>
            <a:ext cx="80931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0458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ersano alla banca depositaria i contributi acquisiti in ritardo e trasmettono a PREVEDI le distinte dei versamenti effettuati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gnalano a PREVEDI i dati dei lavoratori associati per i quali non compaiono contributi o compaiono solo in part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 caso di riscontrata variazione del rapporto di lavoro e di assenza di contribuzione, segnalano ai lavoratori ed alle aziende la necessità di riaccendere la contribuzion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4E77-5C32-4265-983D-155E8B97C10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569880" y="0"/>
            <a:ext cx="800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0000"/>
                </a:solidFill>
                <a:latin typeface="Tahoma"/>
              </a:rPr>
              <a:t>Acquisizione provvisoria dei contributi a PREVEDI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480" y="1600200"/>
            <a:ext cx="82296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Le aziende versano alla Cassa i contributi dovuti per PREVEDI con la cadenza prevista per gli altri versamenti (mensile) e sulla base della modulistica di denuncia dei lavoratori occupati che contiene una serie di caselle* per indicare: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il contributo a carico del lavorator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il contributo a carico dell’azienda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il contributo derivante dal TFR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*Si deve provvedere ad inserire le caselle per il contributo volontario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CF5D-B892-43DC-90BC-5972DD1D03D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0"/>
            <a:ext cx="91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0000"/>
                </a:solidFill>
                <a:latin typeface="Tahoma"/>
              </a:rPr>
              <a:t>Acquisizione e controllo delle distinte contributive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46280" y="1481040"/>
            <a:ext cx="8092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Cassa acquisisce le distinte di versamento e controlla che quanto versato corrisponda al denunciato ed al dovuto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er gli operai ciò è possibile in quanto gli altri versamenti alla Cassa (ferie, gratifica, ecc.) sono percentualizzati rispetto alla retribuzione così come lo sono i contributi destinati a PREVEDI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er gli impiegati la corrispondenza è col solo denunciato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16E8-52AC-4C9E-8FF8-5980D6153BA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4479840" y="33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7240" y="0"/>
            <a:ext cx="7767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80000"/>
                </a:solidFill>
                <a:latin typeface="Tahoma"/>
              </a:rPr>
              <a:t>Verifica della regolarità contributiva e rinciliazione dei flussi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62120" y="1523880"/>
            <a:ext cx="80596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La Cassa Edile/Edilcassa controlla che per ogni lavoratore che risulta associato a PREVEDI siano stati versati i contributi dovuti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Essendo unico il bonifico effettuato da ogni singola azienda, la Cassa provvede ad assegnare ad ogni lavoratore quanto di sua spettanza rilevandolo dal modulo di denuncia “elenco dei lavoratori occupati”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Ad ogni lavoratore associato va assegnato il contributo distinto nelle varie componenti (lavoratore, azienda, TFR, volontario)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78C7-F32C-4C79-B701-E9D142E0952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0000"/>
                </a:solidFill>
                <a:latin typeface="Tahoma"/>
              </a:rPr>
              <a:t>Versamento alla banca dei contributi e trasmissione a PREVEDI delle distinte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52320" y="1484280"/>
            <a:ext cx="82756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Le Casse Edili/Edilcasse, con cadenza </a:t>
            </a:r>
            <a:r>
              <a:rPr b="1" lang="it-IT" sz="3200" spc="-1" strike="noStrike" u="sng">
                <a:solidFill>
                  <a:srgbClr val="40458c"/>
                </a:solidFill>
                <a:uFillTx/>
                <a:latin typeface="Tahoma"/>
              </a:rPr>
              <a:t>trimestrale</a:t>
            </a: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, versano alla banca depositaria i contributi acquisiti ed inviano, contestualmente, a PREVEDI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copia della distinta di versamento (bonifico)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distinta della ripartizione dei contributi relativi ad ogni lavoratore nelle loro componenti (lavoratore, azienda, TFR, volontaria)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1558-70DB-47CC-A9B9-60563CE4B9D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04840" y="228600"/>
            <a:ext cx="873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0000"/>
                </a:solidFill>
                <a:latin typeface="Tahoma"/>
              </a:rPr>
              <a:t>Gestione dei contributi acquisiti in ritardo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400" y="1676520"/>
            <a:ext cx="80172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074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22074"/>
                </a:solidFill>
                <a:latin typeface="Tahoma"/>
              </a:rPr>
              <a:t>contributi acquisiti in ritardo a causa di ritardato versamento delle aziende sono versati alla banca </a:t>
            </a:r>
            <a:r>
              <a:rPr b="1" lang="en-US" sz="3200" spc="-1" strike="noStrike" u="sng">
                <a:solidFill>
                  <a:srgbClr val="022074"/>
                </a:solidFill>
                <a:uFillTx/>
                <a:latin typeface="Tahoma"/>
              </a:rPr>
              <a:t>mensilmente</a:t>
            </a:r>
            <a:r>
              <a:rPr b="0" lang="en-US" sz="3200" spc="-1" strike="noStrike">
                <a:solidFill>
                  <a:srgbClr val="022074"/>
                </a:solidFill>
                <a:latin typeface="Tahoma"/>
              </a:rPr>
              <a:t> dopo  essere stati assegnati a ciascun lavoratore beneficiario e suddivisi nelle loro componenti (azienda, lavoratore, TFR, volontaria)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3CEE-8FD4-4515-A7CB-198A5733819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443600" y="84240"/>
            <a:ext cx="629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0000"/>
                </a:solidFill>
                <a:latin typeface="Tahoma"/>
              </a:rPr>
              <a:t>Segnalazione delle anomalie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71680" y="1676520"/>
            <a:ext cx="8001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Le Casse Edili/Edilcasse segnalano a PREVEDI ogni anomalia riscontrata nella contribuzione quali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differenze fra contributi dovuti e contributi versati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mancati versamenti da parte delle aziende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ritardati versamenti da parte delle aziende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97C2-8CC2-48E5-8E8B-316C30B2301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2200320" y="228600"/>
            <a:ext cx="474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0000"/>
                </a:solidFill>
                <a:latin typeface="Tahoma"/>
              </a:rPr>
              <a:t>Ulteriori segnalazioni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71680" y="1455840"/>
            <a:ext cx="84740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Le Casse Edili/Edilcasse segnalano a PREVEDI i dati relativi ai lavoratori associati per i quali, nel trimestre, non compaiono contribuzioni o compaiono parzialmente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Queste segnalazioni consentono al fondo di verificare eventuali spostamenti di tali lavoratori in territori o Casse differenti, ovvero di segnalare ai lavoratori la carenza o assenza di contributi nel periodo di riferimento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1A5F-56BF-44B9-BFF5-4A17877E7F1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2200320" y="150840"/>
            <a:ext cx="474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0000"/>
                </a:solidFill>
                <a:latin typeface="Tahoma"/>
              </a:rPr>
              <a:t>Ulteriori segnalazioni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62120" y="2163600"/>
            <a:ext cx="7856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Le Casse Edili/Edilcasse che riscontrano una variazione del rapporto di lavoro e l’assenza di contribuzione, segnalano al lavoratore ed all’azienda la necessità di riaccendere la contribuzione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317B-3F99-407A-8A52-23C4006ED39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533520" y="22860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0000"/>
                </a:solidFill>
                <a:latin typeface="Tahoma"/>
              </a:rPr>
              <a:t>Rapporti col gestore dei servizi amministrativi di PREVEDI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8560" y="1596960"/>
            <a:ext cx="81345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l gestore dei servizi amministrativi di PREVEDI fornisce alle singole Casse un apposito protocollo sugli standard tecnici, organizzativi e qualitativi delle operazioni affidate alle stesse Casse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l gestore dei servizi amministrativi fornisce alle Casse i programmi informatici, i collegamenti “on line” e le relative istruzioni atti al corretto funzionamento del sistema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945B-704B-4624-A747-D7BF7D90A5A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715760" y="380880"/>
            <a:ext cx="571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80000"/>
                </a:solidFill>
                <a:latin typeface="Tahoma"/>
              </a:rPr>
              <a:t>Le Casse Edili/Edilcasse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92160" y="3200400"/>
            <a:ext cx="7694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2207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22074"/>
                </a:solidFill>
                <a:latin typeface="Tahoma"/>
              </a:rPr>
              <a:t>Promozione di PREVEDI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207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22074"/>
                </a:solidFill>
                <a:latin typeface="Tahoma"/>
              </a:rPr>
              <a:t>Acquisizione e verifica delle anagrafiche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207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22074"/>
                </a:solidFill>
                <a:latin typeface="Tahoma"/>
              </a:rPr>
              <a:t>Acquisizione, verifica ed invio dei contributi                                                               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062720" y="1676520"/>
            <a:ext cx="701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0000"/>
                </a:solidFill>
                <a:latin typeface="Tahoma"/>
              </a:rPr>
              <a:t>Collaborano con PREVEDI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0000"/>
                </a:solidFill>
                <a:latin typeface="Tahoma"/>
              </a:rPr>
              <a:t>svolgendo tre fondamentali compiti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380F-D2DB-4BB9-B365-ED75DD61747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952280" y="184320"/>
            <a:ext cx="525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0000"/>
                </a:solidFill>
                <a:latin typeface="Tahoma"/>
              </a:rPr>
              <a:t>Promozione di PREVEDI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52560" y="1676520"/>
            <a:ext cx="72388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22074"/>
                </a:solidFill>
                <a:latin typeface="Tahoma"/>
              </a:rPr>
              <a:t>Le Casse Edili/Edilcasse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207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22074"/>
                </a:solidFill>
                <a:latin typeface="Tahoma"/>
              </a:rPr>
              <a:t>distribuiscono a lavoratori ed imprese il materiale promozionale fornito dal Fondo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207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22074"/>
                </a:solidFill>
                <a:latin typeface="Tahoma"/>
              </a:rPr>
              <a:t>distribuiscono a lavoratori ed imprese le schede informative ed i moduli di adesione forniti dal Fondo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9B6B-4A91-4C71-A82E-A0D12D4DFFE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07720" y="304920"/>
            <a:ext cx="872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0000"/>
                </a:solidFill>
                <a:latin typeface="Tahoma"/>
              </a:rPr>
              <a:t>Acquisizione e verifica delle anagrafiche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08120" y="947880"/>
            <a:ext cx="824544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22074"/>
                </a:solidFill>
                <a:latin typeface="Tahoma"/>
              </a:rPr>
              <a:t>Le Casse Edili/Edilcasse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207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22074"/>
                </a:solidFill>
                <a:latin typeface="Tahoma"/>
              </a:rPr>
              <a:t>raccolgono provvisoriamente i moduli di adesione a PREVEDI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207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22074"/>
                </a:solidFill>
                <a:latin typeface="Tahoma"/>
              </a:rPr>
              <a:t>registrano i dati anagrafici dei lavoratori aderenti a PREVEDI e delle aziende da cui dipendono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207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22074"/>
                </a:solidFill>
                <a:latin typeface="Tahoma"/>
              </a:rPr>
              <a:t>accertano, in caso di nuova iscrizione di un lavoratore alla Cassa, se egli è aderente a PREVEDI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207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22074"/>
                </a:solidFill>
                <a:latin typeface="Tahoma"/>
              </a:rPr>
              <a:t>trasmettono l’anagrafe aggiornata di lavoratori ed imprese alla banca dati di PREVEDI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207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22074"/>
                </a:solidFill>
                <a:latin typeface="Tahoma"/>
              </a:rPr>
              <a:t>inviano mensilmente a PREVEDI i dati relativi ad i nuovi aderenti a PREVEDI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24D5-1F67-4E7C-886E-627FB3F1916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3049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0000"/>
                </a:solidFill>
                <a:latin typeface="Tahoma"/>
              </a:rPr>
              <a:t>Raccolta provvisoria dei moduli di adesione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65200" y="1481040"/>
            <a:ext cx="8578800" cy="61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22074"/>
                </a:solidFill>
                <a:latin typeface="Tahoma"/>
              </a:rPr>
              <a:t>Il modulo di adesione si compone di quattro copie: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207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22074"/>
                </a:solidFill>
                <a:latin typeface="Tahoma"/>
              </a:rPr>
              <a:t>l’originale viene spedito a PREVEDI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207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22074"/>
                </a:solidFill>
                <a:latin typeface="Tahoma"/>
              </a:rPr>
              <a:t>una copia resta al lavorator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207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22074"/>
                </a:solidFill>
                <a:latin typeface="Tahoma"/>
              </a:rPr>
              <a:t>una copia è trattenuta dall’azienda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207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22074"/>
                </a:solidFill>
                <a:latin typeface="Tahoma"/>
              </a:rPr>
              <a:t>una copia è conservata dalla Cassa Edile/Edilcassa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22074"/>
                </a:solidFill>
                <a:latin typeface="Tahoma"/>
              </a:rPr>
              <a:t>Il modulo deve essere </a:t>
            </a:r>
            <a:r>
              <a:rPr b="1" lang="it-IT" sz="2800" spc="-1" strike="noStrike" u="sng">
                <a:solidFill>
                  <a:srgbClr val="022074"/>
                </a:solidFill>
                <a:uFillTx/>
                <a:latin typeface="Tahoma"/>
              </a:rPr>
              <a:t>sempre</a:t>
            </a:r>
            <a:r>
              <a:rPr b="0" lang="it-IT" sz="3200" spc="-1" strike="noStrike">
                <a:solidFill>
                  <a:srgbClr val="022074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022074"/>
                </a:solidFill>
                <a:latin typeface="Tahoma"/>
              </a:rPr>
              <a:t>firmato e timbrato dall’azienda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22074"/>
                </a:solidFill>
                <a:latin typeface="Tahoma"/>
              </a:rPr>
              <a:t>Se il lavoratore lo consegna all’azienda, essa provvede a fornire le copie ai destinatari; se lo consegna alla Cassa, essa provvede a farlo firmare e timbrare dall’azienda e invia l’originale al fondo e le copie ai destinatari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5B52-6465-4F79-BB13-76531657A4C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028880" y="228600"/>
            <a:ext cx="708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0000"/>
                </a:solidFill>
                <a:latin typeface="Tahoma"/>
              </a:rPr>
              <a:t>Registrazione ed aggiornamento dei dati anagrafici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280" y="1557360"/>
            <a:ext cx="801684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22074"/>
                </a:solidFill>
                <a:latin typeface="Tahoma"/>
              </a:rPr>
              <a:t>La Cassa Edile/Edilcassa: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207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22074"/>
                </a:solidFill>
                <a:latin typeface="Tahoma"/>
              </a:rPr>
              <a:t>trascrive i dati anagrafici contenuti nel modulo di adesione;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207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22074"/>
                </a:solidFill>
                <a:latin typeface="Tahoma"/>
              </a:rPr>
              <a:t>archivia i moduli;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207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22074"/>
                </a:solidFill>
                <a:latin typeface="Tahoma"/>
              </a:rPr>
              <a:t>aggiorna i dati anagrafici dietro comunicazione dell’azienda o del lavoratore ovvero in base a dati acquisiti dalla Cassa stessa attraverso il modello di denuncia dei lavoratori occupati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22074"/>
                </a:solidFill>
                <a:latin typeface="Tahoma"/>
              </a:rPr>
              <a:t>Per dati anagrafici si intendono: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22074"/>
                </a:solidFill>
                <a:latin typeface="Tahoma"/>
              </a:rPr>
              <a:t>nome, cognome, indirizzo, telefono,codice fiscale, del lavoratore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22074"/>
                </a:solidFill>
                <a:latin typeface="Tahoma"/>
              </a:rPr>
              <a:t>ragione sociale o denominazione, indirizzo, codice fiscale/partita IVA dell’aziend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8C81-5A2F-4A97-88B3-309D4FF37CF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38768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62120" y="228600"/>
            <a:ext cx="7619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0000"/>
                </a:solidFill>
                <a:latin typeface="Tahoma"/>
              </a:rPr>
              <a:t>Accertamento dell’adesione a PREVEDI dei nuovi iscritti alla Cassa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46280" y="1709640"/>
            <a:ext cx="78642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2207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22074"/>
                </a:solidFill>
                <a:latin typeface="Tahoma"/>
              </a:rPr>
              <a:t>Quando la Cassa Edile/Edilcassa rileva la presenza di un nuovo lavoratore, provvede a consultare l’archivio di Prevedi al fine di verificare se è associato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207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22074"/>
                </a:solidFill>
                <a:latin typeface="Tahoma"/>
              </a:rPr>
              <a:t>In caso positivo ed in assenza dei relativi contributi, provvede a comunicare all’azienda la necessità di effettuare i versamenti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207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22074"/>
                </a:solidFill>
                <a:latin typeface="Tahoma"/>
              </a:rPr>
              <a:t>In caso negativo, provvede ad inviare al lavoratore il materiale informativo ed il modulo di adesione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64B7-276A-4583-83FD-99E18A7DFF7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22860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0000"/>
                </a:solidFill>
                <a:latin typeface="Tahoma"/>
              </a:rPr>
              <a:t>Trasmissione a PREVEDI dell’anagrafe aggiornata e dei nuovi aderenti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143000" y="1981080"/>
            <a:ext cx="6858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22074"/>
                </a:solidFill>
                <a:latin typeface="Tahoma"/>
              </a:rPr>
              <a:t>La Cassa Edile/Edilcassa trasmette </a:t>
            </a:r>
            <a:r>
              <a:rPr b="1" lang="it-IT" sz="2800" spc="-1" strike="noStrike" u="sng">
                <a:solidFill>
                  <a:srgbClr val="022074"/>
                </a:solidFill>
                <a:uFillTx/>
                <a:latin typeface="Tahoma"/>
              </a:rPr>
              <a:t>mensilmente</a:t>
            </a:r>
            <a:r>
              <a:rPr b="0" lang="it-IT" sz="2800" spc="-1" strike="noStrike">
                <a:solidFill>
                  <a:srgbClr val="022074"/>
                </a:solidFill>
                <a:latin typeface="Tahoma"/>
              </a:rPr>
              <a:t> alla banca dati di PREVEDI l’anagrafe aggiornata di lavoratori ed aziende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22074"/>
                </a:solidFill>
                <a:latin typeface="Tahoma"/>
              </a:rPr>
              <a:t>La Cassa Edile/Edilcassa invia </a:t>
            </a:r>
            <a:r>
              <a:rPr b="1" lang="it-IT" sz="2800" spc="-1" strike="noStrike" u="sng">
                <a:solidFill>
                  <a:srgbClr val="022074"/>
                </a:solidFill>
                <a:uFillTx/>
                <a:latin typeface="Tahoma"/>
              </a:rPr>
              <a:t>mensilmente</a:t>
            </a:r>
            <a:r>
              <a:rPr b="0" lang="it-IT" sz="2800" spc="-1" strike="noStrike">
                <a:solidFill>
                  <a:srgbClr val="022074"/>
                </a:solidFill>
                <a:latin typeface="Tahoma"/>
              </a:rPr>
              <a:t> a PREVEDI i dati relativi ai nuovi associati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320E-1F93-4C91-BFB1-84E4E2E6065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4479840" y="26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-133920" y="31680"/>
            <a:ext cx="944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0000"/>
                </a:solidFill>
                <a:latin typeface="Tahoma"/>
              </a:rPr>
              <a:t>Acquisizione, verifica ed invio dei contributi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33520" y="1447920"/>
            <a:ext cx="80769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Le Casse Edili/Edilcasse: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acquisiscono provvisoriamente i contributi a PREVEDI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acquisiscono e controllano le distinte contributiv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verificano la regolarità dei contributi e li riconciliano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verificano la regolarità dei contributi versati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versano i contributi acquisiti alla banca depositaria e trasmettono a PREVEDI le distinte dei versamenti effettuati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346080" y="6205680"/>
            <a:ext cx="12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(segue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2751-6A6E-4F43-9C06-4AD936C9DE1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8:45:31Z</dcterms:created>
  <dc:creator>rizzacasar</dc:creator>
  <dc:description/>
  <dc:language>en-US</dc:language>
  <cp:lastModifiedBy>primo</cp:lastModifiedBy>
  <dcterms:modified xsi:type="dcterms:W3CDTF">2003-05-15T14:33:16Z</dcterms:modified>
  <cp:revision>10</cp:revision>
  <dc:subject/>
  <dc:title>Presentazione di PowerPoint</dc:title>
</cp:coreProperties>
</file>