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2D5-42C6-443F-AF1F-FC8444A407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082-FD61-4EBF-BFDC-B6EF5AD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A15-7127-4162-8102-C6ECF17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5D4-2818-4B5B-BA80-66F28FC9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E2E-5720-4091-8810-8DFD50DD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D02-485A-4261-9D0D-61A2BC8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1A1-9768-4EF0-A3DD-2F947D20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EB0-620C-47F9-865C-D790080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B18-23CD-48B7-A9DE-0A87C82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8D7-4502-456F-9043-87868C2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4EC-A6FC-42D5-8388-247CBA8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B55-7BAC-4C6C-86B2-9DB81C0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FFF-FBD4-4053-A035-8394D6B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9D4-07D1-42B3-AC09-7BEF97B624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L DISTRETTO DELLA SEDIA, QUALI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FIDE E QUALE FUTURO NELL’EPOCA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LLA GLOBALIZZAZIONE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Il Distretto della Sedia: elementi per un piano strategico</a:t>
            </a:r>
            <a:br>
              <a:rPr sz="2800"/>
            </a:br>
            <a:br>
              <a:rPr sz="1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ulvio Matt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6248520"/>
            <a:ext cx="37990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orno di Rosazzo, 29 marzo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) La posta in gio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 Unicode MS"/>
              </a:rPr>
              <a:t>La quota nazionale dei comparti del Legno, del Mobile e del Legno-mobilio, per regioni e macro-ripartizioni (Italia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219320"/>
            <a:ext cx="3479760" cy="1800000"/>
          </a:xfrm>
          <a:prstGeom prst="cloudCallout">
            <a:avLst>
              <a:gd name="adj1" fmla="val 39870"/>
              <a:gd name="adj2" fmla="val 144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Friuli V.G. ha la sua maggi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pecializzazione nel comp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obiliero: </a:t>
            </a: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oltre il 10% del d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nazionale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Praticamente tutta concent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nell’area friu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990720"/>
            <a:ext cx="3479760" cy="1295280"/>
          </a:xfrm>
          <a:prstGeom prst="cloudCallout">
            <a:avLst>
              <a:gd name="adj1" fmla="val 22717"/>
              <a:gd name="adj2" fmla="val 21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ssieme al Veneto controlla circa 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intero comparto a livello nazionale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371600"/>
            <a:ext cx="2184120" cy="1295280"/>
          </a:xfrm>
          <a:prstGeom prst="cloudCallout">
            <a:avLst>
              <a:gd name="adj1" fmla="val 65842"/>
              <a:gd name="adj2" fmla="val 21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con le M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quota supera il 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a quota del Friuli V.G. e del Distretto della Sedia nei comparti del Legno, del Mobile, del Legno-Mobilio e delle Sedie (Italia =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1219320"/>
            <a:ext cx="3479760" cy="1981080"/>
          </a:xfrm>
          <a:prstGeom prst="cloudCallout">
            <a:avLst>
              <a:gd name="adj1" fmla="val 15055"/>
              <a:gd name="adj2" fmla="val 37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istretto della sedia 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oco meno del 40% dell’intero compa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mobile del FVG e ci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/3 della filiera legn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057400"/>
            <a:ext cx="3479760" cy="1981080"/>
          </a:xfrm>
          <a:prstGeom prst="cloudCallout">
            <a:avLst>
              <a:gd name="adj1" fmla="val 15055"/>
              <a:gd name="adj2" fmla="val 37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duzione di sedie del Distre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oltre il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quella totale ital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61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 Unicode MS"/>
              </a:rPr>
              <a:t>Il peso del Distretto della Sedia sulla Manifattura, sul comparto del Mobile, del Legno, del Legno-Mobilio e Sedie (del FVG e della prov. di UD), in % degli occup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914400"/>
            <a:ext cx="3479760" cy="1447920"/>
          </a:xfrm>
          <a:prstGeom prst="cloudCallout">
            <a:avLst>
              <a:gd name="adj1" fmla="val 15055"/>
              <a:gd name="adj2" fmla="val 70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 riferimento alla Provincia di U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istretto della Sedia vale oltre 1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tutta la base industriale installata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90720"/>
            <a:ext cx="3479760" cy="1066680"/>
          </a:xfrm>
          <a:prstGeom prst="cloudCallout">
            <a:avLst>
              <a:gd name="adj1" fmla="val 15055"/>
              <a:gd name="adj2" fmla="val 113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poco meno dei 2/3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iliera legno provincia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752480"/>
            <a:ext cx="3479760" cy="1067040"/>
          </a:xfrm>
          <a:prstGeom prst="cloudCallout">
            <a:avLst>
              <a:gd name="adj1" fmla="val -34944"/>
              <a:gd name="adj2" fmla="val 101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poco meno dei 3/4 del comp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Mobile della provincia di 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05520"/>
            <a:ext cx="2489400" cy="1066680"/>
          </a:xfrm>
          <a:prstGeom prst="cloudCallout">
            <a:avLst>
              <a:gd name="adj1" fmla="val 30231"/>
              <a:gd name="adj2" fmla="val -267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ovvi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quasi total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comparto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le e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362320"/>
            <a:ext cx="4267440" cy="3124080"/>
          </a:xfrm>
          <a:custGeom>
            <a:avLst/>
            <a:gdLst>
              <a:gd name="textAreaLeft" fmla="*/ 974160 w 4267440"/>
              <a:gd name="textAreaRight" fmla="*/ 3293280 w 426744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 pezzo consisten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pparato produttiv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 cui v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iunte le attività e l’occup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 esso collegate (trasport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i tecnici, consulenti,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POSTA IN GIOCO E’, dunqu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VATISSIMA 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) L’impatto di medio periodo sulle imprese e sull’occup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’impatto economico di medio periodo: il trend del fatturato nel periodo 2001-2005, per tipo di impresa (in % impr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191120"/>
            <a:ext cx="3479760" cy="1828800"/>
          </a:xfrm>
          <a:prstGeom prst="cloudCallout">
            <a:avLst>
              <a:gd name="adj1" fmla="val 1067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CALO della domanda colpis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utte le diverse tipologie di impre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quasi la metà dei gruppi industri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delle imprese artigian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e oltre 1/3 d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tre imprese industriali del distre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523880"/>
            <a:ext cx="3479760" cy="1219320"/>
          </a:xfrm>
          <a:prstGeom prst="cloudCallout">
            <a:avLst>
              <a:gd name="adj1" fmla="val 10675"/>
              <a:gd name="adj2" fmla="val 95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STAGNAZIONE del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lpisce una parte cons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e imprese (dal 35% al 3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85800"/>
            <a:ext cx="3479760" cy="1219320"/>
          </a:xfrm>
          <a:prstGeom prst="cloudCallout">
            <a:avLst>
              <a:gd name="adj1" fmla="val -9032"/>
              <a:gd name="adj2" fmla="val 130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lo una quota decis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inoritaria delle 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chiara un aumento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pria 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276720"/>
            <a:ext cx="4267080" cy="18288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e questo accade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 dell’ulteriore e con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o intervenuto nel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el FATTURATO di 182 società del Distretto: confronto 2005- 200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n milioni di Euro correnti e costanti (var.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141720"/>
            <a:ext cx="3708360" cy="1828800"/>
          </a:xfrm>
          <a:prstGeom prst="cloudCallout">
            <a:avLst>
              <a:gd name="adj1" fmla="val 693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fatturato delle 182 società del Distre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ra prossimo a 1 miliardo di Eu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5 si sono persi 68 milioni di Eur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ari al -6,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1700280"/>
            <a:ext cx="3708360" cy="1297080"/>
          </a:xfrm>
          <a:prstGeom prst="cloudCallout">
            <a:avLst>
              <a:gd name="adj1" fmla="val 6935"/>
              <a:gd name="adj2" fmla="val 87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 stesso fatturato - valutato a prezz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tanti -  evidenzia però un calo di oltre 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ilioni di Euro (-16,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4437000"/>
            <a:ext cx="3708360" cy="1297080"/>
          </a:xfrm>
          <a:prstGeom prst="cloudCallout">
            <a:avLst>
              <a:gd name="adj1" fmla="val 53851"/>
              <a:gd name="adj2" fmla="val -617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’ stata ripetuta l’operazione toglie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una sola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società: i risultati ottenu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no del tutto evi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628640"/>
            <a:ext cx="2232000" cy="1297080"/>
          </a:xfrm>
          <a:prstGeom prst="cloudCallout">
            <a:avLst>
              <a:gd name="adj1" fmla="val 8750"/>
              <a:gd name="adj2" fmla="val 114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ecremen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fatti, diventa pari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4,1% a prezzi corre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d al 23,2% a prezz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ta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e previsioni degli imprenditori sullo stato di salute della propria impresa nel 200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per tipologia di impresa (in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8800" y="990720"/>
            <a:ext cx="3479760" cy="1828800"/>
          </a:xfrm>
          <a:prstGeom prst="cloudCallout">
            <a:avLst>
              <a:gd name="adj1" fmla="val -38958"/>
              <a:gd name="adj2" fmla="val 131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evisione fatta per il 2006 da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mprenditori era di DIFFICOLTA’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LTRE la META’ delle imprese artigi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per oltre 1/4 di quelle industr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1371600"/>
            <a:ext cx="3479760" cy="1828800"/>
          </a:xfrm>
          <a:prstGeom prst="cloudCallout">
            <a:avLst>
              <a:gd name="adj1" fmla="val 1067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calo consistente della do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stera di mobili speriment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6 dalle imprese d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 di UD (-9,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ra evidentemente già dato per scont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 una folta platea di 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Cosa serve per uscire dalla crisi: il parere degli imprenditori (in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35440" y="838080"/>
            <a:ext cx="3479760" cy="1828800"/>
          </a:xfrm>
          <a:prstGeom prst="cloudCallout">
            <a:avLst>
              <a:gd name="adj1" fmla="val -52462"/>
              <a:gd name="adj2" fmla="val 84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li imprenditori vedono con chiarez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a serve lor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) recuperare mercato, soprattu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) innov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) migliorare la capacità di gest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pria i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64240" y="2438280"/>
            <a:ext cx="3479760" cy="1828800"/>
          </a:xfrm>
          <a:prstGeom prst="cloudCallout">
            <a:avLst>
              <a:gd name="adj1" fmla="val -116333"/>
              <a:gd name="adj2" fmla="val 37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…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...e assume rilievo la necess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cepita dagli imprenditori artigi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cercare un proprio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di innovars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) 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) Lo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…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46160"/>
            <a:ext cx="836784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 é la necessità di crescere di DIMENSIONE da parte delle aziende per poter competere a livello globale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l medio period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iò è possibile unicamente attraverso una strategia basata sull’AGGREGAZIONE (di sc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616120"/>
            <a:ext cx="836784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IMPRESE manifestano la necessità di sperimentare nuovi approcci al MERCATO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 non riescono ad individuare una strategia vincen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840120"/>
            <a:ext cx="836784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MERCATO è l’assillo principale delle imprese. Esse </a:t>
            </a:r>
            <a:r>
              <a:rPr b="1" i="1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non hanno un rapporto diretto con il consumatore final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ssendo questo mediato da buyers che sfruttano a loro esclusivo vantaggio tale opportun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5479920"/>
            <a:ext cx="836784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MPRESE chiedono alle istituzioni e al mondo bancario di essere PARTN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llo sforzo di rilancio del Distr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1276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…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1800" y="2286000"/>
            <a:ext cx="8496360" cy="1793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 scopo centrale del progetto strategico (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ategia A-l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risiede nell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à di intervenire nel mercato globa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l fine è quello di: a) incrementarne la penetrazione commerciale, b) aumentare la qualità e il valore aggiunto dei vari prodotti, c) aumentare la redditività delle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440" y="4106880"/>
            <a:ext cx="8574120" cy="2468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iste una alternativa ben conosciuta e molto praticata (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ategia B-as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he consiste nell’infilarsi nella spirale perversa della riduzione dei costi, degli investimenti e della base industriale. Ciò porta il Distretto 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ete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 paesi produttori a basso costo del lavor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La conseguenza di medio periodo é la sostituzione di produzione nazionale con produzione este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lla di lungo periodo: un suo forte ridimen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800" y="1066680"/>
            <a:ext cx="851544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’ venuto il tempo del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ioco di squadra di livello glob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vero delle AGGREGAZIONI STRATEGICHE!!! Per le quali ci vuole, tuttavia, un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GETTO competitivo di tipo STRATEGI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...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800" y="1052640"/>
            <a:ext cx="8275680" cy="2806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trategia Alta si candida a competere con catene internazionali come IKEA – di cui il FVG, come è noto, è largamente sub/fornitore - ma posizionandosi su una fascia di qualità superi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e strategia implica una riconversione al mercato globale: Essa si concretizza nell’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ertura di centri di commercializzazio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i mercati ricchi (USA, ma anche Francia e Germania) e su quelli che lo stanno divent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800" y="5184720"/>
            <a:ext cx="826128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a strategia si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pone direttamente alla clientela fi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-passando le costose reti di intermediazione e di commercializzazione ch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stituiscono un grave fattore di impoverimento delle nostre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800" y="3962520"/>
            <a:ext cx="826128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 un prodotto che sfrutta l’immagine del MADE in ITALY. Vendendo, però, anche una qualità superiore c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pportunamente comunic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ltre che effettivament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alizz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5228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...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052640"/>
            <a:ext cx="8458200" cy="131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reazione di centri di commercializzazione consente di elevare la redditività aziendale. Offre anche una interessante opportunità all’investimento finanziario agli imprenditori che pensano di dis/investire dalla Filiera e al SISTEMA BANC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492280"/>
            <a:ext cx="8458200" cy="1015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Progetto strategico deve prevedere l’acquisizione di partner bancari e finanziari a livello locale, regionale e nazionale ma anche internazionale per rendere più solido il radicamento es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29160"/>
            <a:ext cx="8458200" cy="16239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atti, deve prevedere investimenti rilevanti per migliorare la qualità, lo standard e l’immagine dei prodotti della Filiera legno del FVG – o, addirittura, del Triveneto … più Marche -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involgendo risorse pubbliche e priv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Come si è fatto nel settore dell’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bbigliamento tradiziona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ortiv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gli occhi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d esemp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373720"/>
            <a:ext cx="8458200" cy="1015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 le AGGREGAZIONI – purtroppo - non nascono spontaneamente da sole!!!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oprattutto quando i produttori sono molti, piccoli e tradizionalmente in competizione tra di loro. E ALLO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proposta di OGG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066680"/>
            <a:ext cx="85341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ra serve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un Piano STRATEGICO di RILANCIO industriale del Distretto della Sedia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(che faccia pendant con il Piano di gestione della crisi occupazionale dell’ottobre 2006). Esso dovreb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600" y="3013200"/>
            <a:ext cx="8529480" cy="13536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ere tutte le caratteristiche di un piano di fattibilità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definire i soggetti interessati, gli obiettivi generali e specifici da raggiungere, gli interventi concreti da realizzare, l’ammontare delle risorse finanziari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ecessarie distinte in private e pubbliche, la durata del Piano, ecc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209680"/>
            <a:ext cx="853416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re su iniziativa dell’A.R. competent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l’Ente provinciale, infatti, non ha competenze in materia industrial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394160"/>
            <a:ext cx="853416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evedere di essere sottoposto e discusso con le parti sociali per averne il consen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6360" y="5199120"/>
            <a:ext cx="8532720" cy="745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sere affidato all’ASDI del Distretto della S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 la sua gestione concre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040" y="5970600"/>
            <a:ext cx="8528040" cy="745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sere confezionato con urgenz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 un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ruttura che ha capacità tecniche e che gode della fiducia del mondo imprenditoriale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i lungo periodo dell‘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060640"/>
            <a:ext cx="3479760" cy="1520640"/>
          </a:xfrm>
          <a:prstGeom prst="cloudCallout">
            <a:avLst>
              <a:gd name="adj1" fmla="val 92"/>
              <a:gd name="adj2" fmla="val 207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seggiolai italiani colg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doppia opportun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valutazione della L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ordo sul costo del lav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724280"/>
            <a:ext cx="3695400" cy="1729080"/>
          </a:xfrm>
          <a:prstGeom prst="cloudCallout">
            <a:avLst>
              <a:gd name="adj1" fmla="val 12972"/>
              <a:gd name="adj2" fmla="val -115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 totale si tratta di 8/9 anni di cres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stenuta che porta a triplicare l’ex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valori correnti e a moltiplicar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 2,3 volte  a prezzi costa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692280"/>
            <a:ext cx="3479760" cy="1520640"/>
          </a:xfrm>
          <a:prstGeom prst="cloudCallout">
            <a:avLst>
              <a:gd name="adj1" fmla="val -9763"/>
              <a:gd name="adj2" fmla="val 102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la funzione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comoti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volta dai mercati USA 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er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i lungo periodo dell‘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724280"/>
            <a:ext cx="3695400" cy="1729080"/>
          </a:xfrm>
          <a:prstGeom prst="cloudCallout">
            <a:avLst>
              <a:gd name="adj1" fmla="val 50087"/>
              <a:gd name="adj2" fmla="val -91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Negli ultimi 6 anni si sono pers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rezzi correnti, il 7,4% dell’ex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obiliero nazionale ed il 19,7%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llo delle sedie (il 16,5% 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27,7% a prezzi cost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692280"/>
            <a:ext cx="3479760" cy="1800000"/>
          </a:xfrm>
          <a:prstGeom prst="cloudCallout">
            <a:avLst>
              <a:gd name="adj1" fmla="val 72717"/>
              <a:gd name="adj2" fmla="val 346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artire dal 2001,però, i seggiolai itali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offrono di 2 malattie gravi, 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non riescono ancora a fronteggi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1) la perdita di competi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2) la comparsa di nuovi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glob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macro trend della Filiera del mobile: la penetrazione dei mercati esteri di PN, UD, FVG e Italia, a prezzi costanti 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268280"/>
            <a:ext cx="3479760" cy="1800360"/>
          </a:xfrm>
          <a:prstGeom prst="cloudCallout">
            <a:avLst>
              <a:gd name="adj1" fmla="val -19981"/>
              <a:gd name="adj2" fmla="val 73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merge subito la forte divers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performance tra le province di UD e P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e diventa ancor più eclata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triennio 200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4797360"/>
            <a:ext cx="3479760" cy="1800360"/>
          </a:xfrm>
          <a:prstGeom prst="cloudCallout">
            <a:avLst>
              <a:gd name="adj1" fmla="val 32939"/>
              <a:gd name="adj2" fmla="val -73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parte da 800 ml € (1991) e arr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toccare i 1.150 ml € (1995 e 2001),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cendere a 700 nel 2006 (-38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rezzi correnti, nel 2006 perde il 3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export rispetto a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300 ml su 1 ml €) torn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 livelli inferiori a quelli del 199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1125360"/>
            <a:ext cx="3479760" cy="1800360"/>
          </a:xfrm>
          <a:prstGeom prst="cloudCallout">
            <a:avLst>
              <a:gd name="adj1" fmla="val 66513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nel 2006 si registra il “sorpass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orico da parte della provincia di 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715 ml € di export cont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698 di quella di U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lungo periodo dell’export di mobili del Friuli VG e delle province di UD e di PN espresso come quota % sull’export italiano  (Italia = 100% in ciascun an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1143000"/>
            <a:ext cx="3479760" cy="1800360"/>
          </a:xfrm>
          <a:prstGeom prst="cloudCallout">
            <a:avLst>
              <a:gd name="adj1" fmla="val 43888"/>
              <a:gd name="adj2" fmla="val 112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vincia di UD arretra più d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retti concorrenti nazionali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 mercato in contrazione, trascin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FVG in questo trend, mentr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 di PN miglio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sua pos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3200400"/>
            <a:ext cx="4495680" cy="1800360"/>
          </a:xfrm>
          <a:prstGeom prst="cloudCallout">
            <a:avLst>
              <a:gd name="adj1" fmla="val 31990"/>
              <a:gd name="adj2" fmla="val 82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 segnalare l’andamento assolut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vergente dell’ultimo trienn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N = +17,5% (p. correnti) e + 11,1% (p. cost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= -20,9% (p. correnti) e -25,2% (p. costant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3479760" cy="1800000"/>
          </a:xfrm>
          <a:prstGeom prst="cloudCallout">
            <a:avLst>
              <a:gd name="adj1" fmla="val 185490"/>
              <a:gd name="adj2" fmla="val 154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fine, il sorpasso nel 2006 da p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a Provincia di PN nonos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100 ml € che ancora separav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da PN appena nel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724280"/>
            <a:ext cx="1981080" cy="1800360"/>
          </a:xfrm>
          <a:prstGeom prst="cloudCallout">
            <a:avLst>
              <a:gd name="adj1" fmla="val 25162"/>
              <a:gd name="adj2" fmla="val 163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a d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- 70 ml €, con un c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9,2% nel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l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lungo periodo dell’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02060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57388"/>
              <a:gd name="adj2" fmla="val 49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munque si valuti la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export delle sedie, è certo che si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rnati ai livelli assoluti raggiu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8 o 10 anni fa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3479760" cy="1600200"/>
          </a:xfrm>
          <a:prstGeom prst="cloudCallout">
            <a:avLst>
              <a:gd name="adj1" fmla="val 10310"/>
              <a:gd name="adj2" fmla="val 984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domanda a cui rispond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ora è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ettiamo la SFIDA di riguadagn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mercato ed i clienti persi o no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4343400"/>
            <a:ext cx="3479760" cy="1600200"/>
          </a:xfrm>
          <a:prstGeom prst="cloudCallout">
            <a:avLst>
              <a:gd name="adj1" fmla="val 8851"/>
              <a:gd name="adj2" fmla="val 42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 la risposta è SI, dobbi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rci una strategia di svilup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e permetta alle nostre impr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competere a livello GLOB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medio periodo dell’import italiano di sedie, a prezzi correnti, dal 2001 al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143157"/>
              <a:gd name="adj2" fmla="val 166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l’ultimo triennio - e nel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 particolar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è diventato consistente l’effe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sostituzione della produ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 quella estera, specie ci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ca. 100 ml €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762120"/>
            <a:ext cx="3632040" cy="1800000"/>
          </a:xfrm>
          <a:prstGeom prst="cloudCallout">
            <a:avLst>
              <a:gd name="adj1" fmla="val 33652"/>
              <a:gd name="adj2" fmla="val 96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’import cinese, infatti,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i aggiu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’import storico delle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addoppiando la sua quota ne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ltimi 3 anni (dall’11,3% del 2004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2% del 2006) e triplicand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gli ultimi 5 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191120"/>
            <a:ext cx="3200400" cy="961920"/>
          </a:xfrm>
          <a:prstGeom prst="cloudCallout">
            <a:avLst>
              <a:gd name="adj1" fmla="val 22717"/>
              <a:gd name="adj2" fmla="val 10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…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.. un effetto evident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globalizzazione del merc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delle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medio periodo dell’export italiano di sedie, dal 2001 al 200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confronto tra i due principali paesi di dest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2360" y="112392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27097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’export delle sedie è mo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centr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49% è destinato a soli 3 Pae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ermania (18,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SA (17,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rancia (13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3860640" cy="1800000"/>
          </a:xfrm>
          <a:prstGeom prst="cloudCallout">
            <a:avLst>
              <a:gd name="adj1" fmla="val 29356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bbene, è accaduto c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) è crollato il mercato USA perdend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li 2 anni 133 ml di €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) si è ridimensionato fortemente 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ercato tedesco che per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ltre 70 ml di € nel 2002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altri 25 ml nel 2005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990720"/>
            <a:ext cx="3936960" cy="2895480"/>
          </a:xfrm>
          <a:prstGeom prst="cloudCallout">
            <a:avLst>
              <a:gd name="adj1" fmla="val 29759"/>
              <a:gd name="adj2" fmla="val 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rezzi costanti, il crollo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ercato italiano delle sed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è del 27,7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i tratta di oltre 1/2 Md € di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perso sui 2 md € in essere nel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45% della perdita totale 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ttribuibile al mercato USA, il 35,8%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llo tedesco. Nel compl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sti mercati - assieme a quelli france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nglese e olandese - danno conto del 98,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dell’export totale pers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419720"/>
            <a:ext cx="3479760" cy="1800000"/>
          </a:xfrm>
          <a:prstGeom prst="cloudCallout">
            <a:avLst>
              <a:gd name="adj1" fmla="val 27097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iconquistare il mercato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ichiede l’adozione di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eguata strategia glob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3:32:31Z</dcterms:created>
  <dc:creator>RenatoC</dc:creator>
  <dc:description/>
  <dc:language>en-US</dc:language>
  <cp:lastModifiedBy>mickele</cp:lastModifiedBy>
  <cp:lastPrinted>2005-12-06T12:54:22Z</cp:lastPrinted>
  <dcterms:modified xsi:type="dcterms:W3CDTF">2007-04-02T08:25:48Z</dcterms:modified>
  <cp:revision>123</cp:revision>
  <dc:subject/>
  <dc:title>Nessun titolo diapositiva</dc:title>
</cp:coreProperties>
</file>